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14C-3A3C-4A1B-8A00-B01460EA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77E-7BD2-4D85-AD1F-F70FE42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069-7EAF-4C29-A8B9-A85DDC4D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CD3-7865-465B-8CF7-F5969850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CED-C113-4CF6-A5D7-E060C0F5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66C-124B-40F5-8357-74E8B516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6A0-0126-49E1-8E95-56B5ADA6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B58-9DB9-49ED-919E-9D98C3D0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25B-DF74-467D-B36A-3D27350C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EAF-8598-4B43-9F30-BDABDFE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C40-68EC-43A7-AC04-FAE79D26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394-0D27-4C9D-8108-E4FC1C99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DD62-2993-45B6-B7B1-28ADD89E6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6 Week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2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oncern: glucose is the primary substrate for cerebral metabolis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term infants moderate hypoglycemia with glucose &lt;47mg/dL has been shown to have neurodevelopmental consequ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 can occur during the first 24 hours and needs to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ipple trial of formula or D10W if infant is able 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unable to nipple, will require IV fluid with a D10W bolus of 2-3ml/kg followed by a dextrose inf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for RDS, pulmonary hypertension, TTN, and Pneumonia(?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S can occur in ~12% of 33-34 wk, 2% of 35-36 wk, and 0.1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N can occur in 11.6% of 33-34 wk, 5% of 35-36 wk, and &lt;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, ~31% of 35-36 weeks will have some respiratory distress requiring some management vs ~ 4% for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iology for distress is possibly due to lack of clearance of fluid  with immature Na transport channels or surfactant defici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onitor for signs of distress: tachypnea, nasal flaring, retractions, grunting, oxygen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via a hood or nasal can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nasal continuous positive airway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ubation and surfacta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are also at increased risk for apnea (4-5% at 34-36 weeks and ~0% at term) and must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are more likely to be evaluated for sepsis and treated for presumed or actual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 they have more antibiotic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infant has respiratory distress, hypoglycemia, or hypothermia, it can be a sign of infection and may require a septic w/u including antibiotic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natal history is also important, such as maternal chorio or prolonged rupture of membranes, as GBS status is often unknown at these gest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I/Feed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have less mature peristaltic function and sphincter contr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increased risk for necrotizing enterocolitis (NEC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an also have uncoordinated suck and swallow, poor weight gain, and dehyd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F and parenteral nutrition until enteral feeding impro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vage feeds until oral feeding improv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tion of breast milk with formula or higher calorie supplementation if inadequate weight g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u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have an increased incidence of hyperbilirub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ften leads to delayed discharge and an increased rate of re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ppear to be at increased risk for bilirubin induced brain injury.  A large proportion of infants with kernicterus ar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 These infants need to be monitored closely for jaundice.  Consider checking a bilirubin prior to discharge and plotting it on the graphs in the AAP guidelines if &gt;35 weeks.  These infants need close follow up after disch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te of readmis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3-9.6% for infants from 33-37 wee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6-4.4% for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mission may be secondary to jaundice, poor weight gain, dehydration, or other eti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need close follow up as outpat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ortality from all causes compared to infants born at t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7/1000 in late preterm infants vs 2.5/1000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X greater risk for S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/1000 in late preterm infants vs 0.7/1000 in term infants; mechanism is un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preterms have more immature br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is 60% of that at t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ulci/gyri/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udies suggest increased risk of periventricular leukomalacia seen at aut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infants are at increased risk for cerebral palsy as compared to term inf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 Term Outc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data.  Studies are primarily based on surv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ollow-up studies, infants born at 32-35 weeks can have ~1/3 with some learning/behavioral  difficu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0% of 34-37 week infants can have some learning difficulties compared to &lt;10% of those born at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data suggest increased rates of ADHD and other behavioral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Term &gt;3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rm &lt;34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34 0/7-36 6/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W &gt;2500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W &lt;2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BW &lt;1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BW &lt;10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o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mor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Best obstetric management, ? Later steroids, ? Check for fetal lung matu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Elective c/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neonatal management- well baby vs IC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studies evaluating long term follow up and how to improve outco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3 week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omplications of the late preterm infant, though increased frequ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ICN 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between 30-34 weeks ~ 46% require assisted ventilation (CPAP or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f not all require IV fluids and TP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34 weeks most infants can’t nipple all feeds and require gavage fee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risk for problems seen in mor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higher risk for developmental problems and readmis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&lt;34 weeks and &lt;2100 grams: admit to ICN, neonatology consult and perhaps transf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-36 weeks: close observation for all of the above issues before transferring to well ba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ischarge 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follow up after discharge and into childh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ju, Higgins, Stark, Leveno. Optimizing care and outcome for late-Preterm Infants: A summary of the workshop sponsored by the National Institute of Child Health and Human Development. Pediatrics 2006; 118:1207-121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ng, Dorer, Fleming, Catlin. Clinical Outcomes of Near-Term Infants. Pediatrics 2004; 114: 372-37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irkegaard, Obel, Hedegaard, Henriksen.  Gestational Age and birth weight in relation to school performance of 10 year old children. Pediatrics 2006; 118: 1600-160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, Siegel, Bauman.  Are children of moderately low birth weight at increased risk for poor health?  Pediatrics 2006; 118: 217-2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le.  A recommendation for the definition of “late Preterm” and the birth weight-Gestational age classification system.  Seminars in Perinatology 2006; 30: 2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ptook, Jackson. Cold Stress and Hypoglycemia in the late preterm infant.  Seminars in Perinatology 2006; 30: 24-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obar, et al.  Unstudied infants: outcomes of moderately premature infants in the neonatal intensive care unit.  Archives of diseases of childhood 2006; 91; F238-24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piro-Mendoza et al. Risk factors for neonatal morbidity and mortality among “healthy’ late preterm newborns. Seminars in Perinatology. 2006; 30: 54-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uddy, Johnson, Hope. Educational and behavioral problems in babies of 32-35 weeks gestation. Archives of diseases of childhood fetal and neonatal edition. 2001; 85: F23-2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ain, Eaton. Physiology of Fetal lung fluid clearance and the effect of labor. Seminars in perinatology 2006; 30: 34-4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preterm birth in US increased from 9.1% in 1981 to 12.3% in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 of this increase was due to late preterm bir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74% of preterm births are late preterm infants from 34-36 weeks of ge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huge impact on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50% of infants born at 34 weeks require intensive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5% at 35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8% at 36 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 Preterm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05 the NICHD had a workshop to address the issues and impact of thes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this meeting these infants were called “near term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have significantly higher rates of morbidities and mortalities compared to term infants and should be considered pre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Issues of Late Preterm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ortality and risk of S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sepsis/antibiotic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problems and feeding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ilirub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e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neurodevelopment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rectal temperature &lt;36.5 degrees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therm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ou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irst 24 hours of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ly secondary to immature epidermal barrier, increased surface area to weight ratio, more delivery room intervention preventing bundling, but also may be a sign of sep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 of infants at 35-36 weeks and ~0% at term require some type of management for hypother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signs of hypothermia include: tachypnea, poor color due to vasoconstriction, low heart rate, and metabolic acid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room:  routine NALS, warmers, skin to sk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N: may include skin to skin contact for larger stable infants, or extra bundling and hats, but often require a radiant warmer or isolette to maintain normal temperature (36.5-37.4 degrees C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to follow temperatures frequently for the first 24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glycemia requiring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8% at 35-36 weeks and 4% at term develop hypoglyc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3 of these infants require treatment with IV dext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tiology is felt to be secondary to delay in hepatic glucose-6-phosphatase activity, low body fuel stores, inadequate oral intake, or other risk factors such as hypothermia and sepsis that increases metabolic de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8:55:52Z</dcterms:created>
  <dc:creator>stacie</dc:creator>
  <dc:description/>
  <dc:language>en-US</dc:language>
  <cp:lastModifiedBy>Ada Ho</cp:lastModifiedBy>
  <dcterms:modified xsi:type="dcterms:W3CDTF">2010-06-09T22:07:07Z</dcterms:modified>
  <cp:revision>11</cp:revision>
  <dc:subject/>
  <dc:title>32-36 week infants</dc:title>
</cp:coreProperties>
</file>